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9.wmf" ContentType="image/x-wmf"/>
  <Override PartName="/ppt/media/image14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F180-43A8-46B8-8FAD-32521DDF5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C65F-7937-42F7-B3F0-6AD3A55A216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Notes Placeholder 7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chlieph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62BA-A1DF-488B-93AA-D2A9FF8C82F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613A-A14C-4E8C-A70D-42710AEA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DF94-5751-4C9A-9395-FFAFECAF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E45-FDA5-4BC7-9DD2-BCE4B6ED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371-B5ED-4FC7-B1AC-E08FFD7C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44CC-35DA-49C0-8157-C340745C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D6E9-7A1A-444D-87E8-4B5FC08C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CE0B-F5AB-4E5A-B4A0-78D60AF2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0AF1-7A5D-4ABC-8998-70936A54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53E1-5053-41F8-BFBA-32507A29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D48E-FDAA-4765-A2CA-5684CF8F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0E88-0E04-49FE-BA41-232AB569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9DD-BE21-4633-834A-28312492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76CE-52CF-4DD7-907D-B42AEF7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7B59-11EF-4360-8B45-8FFA9579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B09D-629A-461F-9567-EA534048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EC50-FC88-4EA6-928A-10F40143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CA52-1BC6-4A4B-8816-404735E4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19D27-B26D-457A-8927-CCCE769D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BB7C7-49B8-401A-8840-5A05514F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0B32D-F7EB-4521-994D-80633FA5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045C-A011-4954-AE31-10C70D64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A41E6-5538-4812-91A4-173B3DB3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84F-FC82-45A4-B70D-AAF76884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B51A3-1BEF-4270-B876-E22ADB03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334B6-EEB7-4539-934F-BB38B40B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FFF0E-BC12-4F13-A852-476F614E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19D7-3F77-421C-9A9E-9763764E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30F8-8FAB-49C9-9086-0EE4F6BF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60A49-D7C7-495A-BCA9-1F532003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56956-B711-4E3C-B9FF-C974DB6A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027-4F9C-42D2-B542-84256A66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029-43E1-43D8-9B75-546F9ABB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56C-2F2B-43B1-9555-4B4169CD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0D2-01E1-4369-8612-EAA4DE41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560-B172-4262-BD9D-6C1D29E2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BB1-27F2-436F-817C-2404A9F4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7190-25AA-4A9E-801A-A3880A75CA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EF84-AB62-4863-BFC9-FAE294DAA1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4FE7-A4E8-464A-803A-C1AE8B323790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АИЗМЕНИЧ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изменичн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арактериш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оме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нзитет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авц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ре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рија ендогених опиои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стојајн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доге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пијат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неопијат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истем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стизањ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гетск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фект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пијат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рецептори:м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ап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елт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слобађај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кефали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дорфи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инорфин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 за ТЕН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оперативни бо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рођајни бо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сменоре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А и О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опатски бол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(постехерпетични, неуралгија н.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V,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Мб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дек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ампутациони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гина пектори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 за ТЕН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Ep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Sinus carotic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Гравидни утеру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штећена кож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редњ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реквен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нтерферентн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mec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нусоидно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одулисан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уска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имулација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оризонтална терапи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терфер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нусоидалн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ниске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фреквенце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стају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ендогено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кивим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перпозицијо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рференцијо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редњефреквентних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з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в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амостал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иостру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в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ај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ст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зите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азличит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мпонент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лектроли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тефер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емец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в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стант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4000 Hz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ријабил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3900-4100 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1-10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,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тел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5029200" y="4876920"/>
            <a:ext cx="3809880" cy="1014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8098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гмент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едо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о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англиотроп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ндард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ку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пецијал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ополар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четворополар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Биолошки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e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фекти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атив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рвоток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зазивајућ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азодилатацију(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љ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рокрвљеност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игенациј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дстрањивањ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окси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едијатор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л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налгетск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бог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љ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циркулациј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сигенациј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дејст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ервн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авршетк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већ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дражљив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проводљив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ериферних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ерав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нхибитор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импатикус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арасимпатикус (</a:t>
            </a:r>
            <a:r>
              <a:rPr b="1" lang="sr-Latn-CS" sz="2000" spc="-1" strike="noStrike">
                <a:solidFill>
                  <a:srgbClr val="eaeaea"/>
                </a:solidFill>
                <a:latin typeface="Times New Roman"/>
              </a:rPr>
              <a:t>AcH,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огућ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други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хемијск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ни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атериј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тганизм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убрз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лимфоток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могућа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н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азмен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електролит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осебно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атр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калц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кал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есорп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еде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бољш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трофик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ирајућ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сидоредукцион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роцес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рганизм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арастањ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а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варање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алус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фрактур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ењ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eaeaea"/>
                </a:solidFill>
                <a:latin typeface="Times New Roman"/>
              </a:rPr>
              <a:t>pH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редн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лкалност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нтиинфламатор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брзавајућ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циркула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есорп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атив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преч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ругаст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глатк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ишић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лакн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изиолошки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фека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0-1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контракција мишић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90-100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аналгетски и симпатиколитичк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0-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активна хиперемија, метаболизам и елиминација токсичних продуката; антиедема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60-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стимулативно деловање на регенерацију повређених нерава, мишића, кости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const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 симпатиколитичк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ачи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бјектив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јагноз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ајањ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оцедур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ин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5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3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ужи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етма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ограниче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изменичн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иск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реквенциј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искофреквентн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51604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фарадск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анскута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лектрич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урал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имулациј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ЕН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трауматск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нтуз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сторз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лукс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шта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елом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њихов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мплик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сеудоартро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Sudeck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цервикал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лумбал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ндро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алг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итиси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вред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живаца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ртритис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ртро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Bechtere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w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HS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Burger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Raunauyd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ебрилнос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екомпенз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италних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рган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кут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фектив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удноћ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омбофлебити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алигнитет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инусоид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одулиса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ус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сногордск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969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0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ск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10-15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з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3886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"/>
          <p:cNvSpPr/>
          <p:nvPr/>
        </p:nvSpPr>
        <p:spPr>
          <a:xfrm>
            <a:off x="1143000" y="3886200"/>
            <a:ext cx="39625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б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дула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00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б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дула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инуира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исокофрекв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ек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00.000 H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ес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89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в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пис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н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'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рсонвал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1892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спитив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фект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овечиј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рганиза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gelschmit 1908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н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зи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иатерми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200b5b"/>
                </a:solidFill>
                <a:latin typeface="Times New Roman"/>
              </a:rPr>
              <a:t>Шта је дијатермија?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42720" y="15235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Употреба нејонизујуће електромагнетне енергије из радио-фреквенцијског спектра као терап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ј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ског сред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-17640" y="2819520"/>
            <a:ext cx="9179280" cy="3809880"/>
          </a:xfrm>
          <a:prstGeom prst="rect">
            <a:avLst/>
          </a:prstGeom>
          <a:ln w="0">
            <a:noFill/>
          </a:ln>
        </p:spPr>
      </p:pic>
      <p:sp>
        <p:nvSpPr>
          <p:cNvPr id="229" name="Oval 7"/>
          <p:cNvSpPr/>
          <p:nvPr/>
        </p:nvSpPr>
        <p:spPr>
          <a:xfrm>
            <a:off x="1447920" y="5486400"/>
            <a:ext cx="68580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3429000" y="5486400"/>
            <a:ext cx="68580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2362320" y="5486400"/>
            <a:ext cx="76176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вак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a VFS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представља електромагнетну енергиј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ко проводника-ЕМП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роз проводник електрична стру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е ће поље превагнути зависи од фреквенци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(таласне дужине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74674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Нормалан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распоред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дипол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молекул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организм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и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њихов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орјентациј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и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сређеност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кондензаторском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колу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6" descr="KTD1"/>
          <p:cNvPicPr/>
          <p:nvPr/>
        </p:nvPicPr>
        <p:blipFill>
          <a:blip r:embed="rId1"/>
          <a:stretch/>
        </p:blipFill>
        <p:spPr>
          <a:xfrm>
            <a:off x="1219320" y="1984320"/>
            <a:ext cx="63244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јств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ар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јств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мичк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кундар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ј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4953240" cy="3429000"/>
          </a:xfrm>
          <a:prstGeom prst="rect">
            <a:avLst/>
          </a:prstGeom>
          <a:ln cap="sq" w="1260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Експерименталн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оказ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из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терм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еловањ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организам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 Lenn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в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пруве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ставље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атких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ла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гре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ег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пруве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ум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ва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ксперимент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каз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ред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гре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к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естиц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ћ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е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ss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створ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раф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ип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ал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N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б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мулз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ључ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иж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емператур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ег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ј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ључ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о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злоз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рње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р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о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chi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створ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лбум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еланц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агулиш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55-57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оде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упатил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62-64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арадс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6252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радеј 1831. годин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асиметрија, ирегуларност циклус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твара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тварањ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ар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ндукц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кундар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ндукцио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пара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следиц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изменич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тварањ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ласичн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и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762120" y="1904760"/>
            <a:ext cx="4038120" cy="4525920"/>
            <a:chOff x="762120" y="1904760"/>
            <a:chExt cx="4038120" cy="4525920"/>
          </a:xfrm>
        </p:grpSpPr>
        <p:sp>
          <p:nvSpPr>
            <p:cNvPr id="149" name="Line 7"/>
            <p:cNvSpPr/>
            <p:nvPr/>
          </p:nvSpPr>
          <p:spPr>
            <a:xfrm>
              <a:off x="798480" y="4642200"/>
              <a:ext cx="40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 flipV="1">
              <a:off x="762120" y="1919880"/>
              <a:ext cx="0" cy="256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 flipV="1">
              <a:off x="762840" y="1904760"/>
              <a:ext cx="0" cy="265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939600" y="3164400"/>
              <a:ext cx="376560" cy="2436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1426320" y="2350440"/>
              <a:ext cx="170280" cy="3302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2760120" y="3055680"/>
              <a:ext cx="437040" cy="2493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1818360" y="3231720"/>
              <a:ext cx="345240" cy="2351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2368080" y="2703240"/>
              <a:ext cx="232920" cy="3727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Експерименталн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оказ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из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терм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еловањ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организам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chliepha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кна хлеба се пресече на три дела и између њих се ставе изолаторске плоче. Када се на крајевима векне укључи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TD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 унутрашњи део векне има 5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, а спољашњи делови 60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. Ако укључимо у коло КТ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-а, температура у сва три дела векне ће бити ист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Високофреквентна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изменичн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руј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фреквенциј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прек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100 000 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специфични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облик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термотерапи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квир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г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ј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ста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претварањем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ff0000"/>
                </a:solidFill>
                <a:latin typeface="Times New Roman"/>
              </a:rPr>
              <a:t>конверзијом</a:t>
            </a:r>
            <a:r>
              <a:rPr b="0" lang="sr-Latn-C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 апсорбован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e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лектромагнетн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нергије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воре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рганизм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вај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чин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зив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 u="sng">
                <a:solidFill>
                  <a:srgbClr val="eaeaea"/>
                </a:solidFill>
                <a:uFillTx/>
                <a:latin typeface="Times New Roman"/>
              </a:rPr>
              <a:t>ендогеном</a:t>
            </a:r>
            <a:r>
              <a:rPr b="1" lang="en-US" sz="30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3000" spc="-1" strike="noStrike" u="sng">
                <a:solidFill>
                  <a:srgbClr val="eaeaea"/>
                </a:solidFill>
                <a:uFillTx/>
                <a:latin typeface="Times New Roman"/>
              </a:rPr>
              <a:t>топлот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зат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ста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ми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кивим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азлик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гзоген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ј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елу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пољ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ж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екундарн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јств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циркулациј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азодилататор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рв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сте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едатив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алгетс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ишић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елаксаци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езив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већањ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стегљивост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нзимск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ктивнос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актериостатичк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актерицид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ејств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одел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'Arsonvalizacija (100.000 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</a:t>
            </a: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gotalasna dijatermija (500.000 - 1.000.000 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ratkotalasna dijatermija (KTD) 10-100 M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ltrakaratkotalasna dijatermija (434,78 M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ikrotalasna dijatermija (2.450 M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ратк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алас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жи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2,12 m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1,06 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3,56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7,1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ИНУИРА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МПУЛС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9625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Апара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генераторск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изменич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едносмерн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и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ат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ешет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сцилаторн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сцил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исок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ацијентов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66"/>
                </a:solidFill>
                <a:latin typeface="Times New Roman"/>
              </a:rPr>
              <a:t>Електроде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cc66"/>
                </a:solidFill>
                <a:latin typeface="Times New Roman"/>
              </a:rPr>
              <a:t>за дијатермију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71240" y="2666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о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chliephak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њираст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акленим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па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Rab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ов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ндукцион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кабл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во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Апарат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 са кондезаторским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електрод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ам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5" descr="Termomed"/>
          <p:cNvPicPr/>
          <p:nvPr/>
        </p:nvPicPr>
        <p:blipFill>
          <a:blip r:embed="rId1"/>
          <a:stretch/>
        </p:blipFill>
        <p:spPr>
          <a:xfrm>
            <a:off x="3352680" y="1828800"/>
            <a:ext cx="284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209680" y="420840"/>
            <a:ext cx="48769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5943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bebeb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ebebeb"/>
                </a:solidFill>
                <a:latin typeface="Times New Roman"/>
              </a:rPr>
              <a:t>)  </a:t>
            </a:r>
            <a:r>
              <a:rPr b="1" lang="sr-CS" sz="3200" spc="-1" strike="noStrike">
                <a:solidFill>
                  <a:srgbClr val="ebebeb"/>
                </a:solidFill>
                <a:latin typeface="Times New Roman"/>
              </a:rPr>
              <a:t>Кондензаторско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1430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но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вар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и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чињени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них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ј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ожен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ким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олатором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кло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учук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о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chliephake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њираст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акленим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па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Rabb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ов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3" name="Picture 4" descr="Termomed"/>
          <p:cNvPicPr/>
          <p:nvPr/>
        </p:nvPicPr>
        <p:blipFill>
          <a:blip r:embed="rId1"/>
          <a:srcRect l="0" t="0" r="0" b="21429"/>
          <a:stretch/>
        </p:blipFill>
        <p:spPr>
          <a:xfrm>
            <a:off x="7153200" y="0"/>
            <a:ext cx="1990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9320" y="1599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Стабилн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етод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полар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хник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и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ни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ам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Лабилна</a:t>
            </a:r>
            <a:r>
              <a:rPr b="1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етод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нополарн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хн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љк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њ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ћ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четк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716292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Б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) 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Електрода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за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електромагнетно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поље</a:t>
            </a:r>
            <a:r>
              <a:rPr b="0" lang="sr-Latn-C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бољ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с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загревају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мишићи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док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загревањ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органа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дубини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изостај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208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а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)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Калем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електроде</a:t>
            </a:r>
            <a:r>
              <a:rPr b="1" lang="sv-SE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мотај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мештен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ућишт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ављај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1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5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ел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Мон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14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20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Мин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8,5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7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ипл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20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б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)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ндукциони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кабл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ли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вод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аксијални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бел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2-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ожен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золатором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мотавањ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кстремитет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пликациј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љоснатог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пецијалној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филцаној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влаци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8" name="Picture 4" descr="KTD monoda"/>
          <p:cNvPicPr/>
          <p:nvPr/>
        </p:nvPicPr>
        <p:blipFill>
          <a:blip r:embed="rId1"/>
          <a:srcRect l="0" t="53904" r="0" b="0"/>
          <a:stretch/>
        </p:blipFill>
        <p:spPr>
          <a:xfrm>
            <a:off x="6811920" y="1981080"/>
            <a:ext cx="2332080" cy="2057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KTD solenoid"/>
          <p:cNvPicPr/>
          <p:nvPr/>
        </p:nvPicPr>
        <p:blipFill>
          <a:blip r:embed="rId2"/>
          <a:stretch/>
        </p:blipFill>
        <p:spPr>
          <a:xfrm>
            <a:off x="6172200" y="6010200"/>
            <a:ext cx="29718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укциони кабл (магнетно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1" name="Picture 2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781680" cy="601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оложај електро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а супротних страна-дубљи ефекат,са исте стране тела-површински ефека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За дубље дејство на 3-4 цм од површине коже, за површно дејство на  1 цм од површине кож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мпулсна 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ристи кратке таласе 27,12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митуј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пулсим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ауз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могућав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ворена топлота одводи циркулацијо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арно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лов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ндезаторск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водник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рењ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твар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ткож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кив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У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олатор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ијента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ипол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ПАЦИТИВ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лектро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магнет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дукцијо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стај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тлож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укоов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крвљени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гијама,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шићим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ачини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гревањ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д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ндезаторско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у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рење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астојањ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Schliephake-o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), 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Rabb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с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кив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ндукционо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тлож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уј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но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8,5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70 W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но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14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200 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дукцио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бл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шић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KTD dub"/>
          <p:cNvPicPr/>
          <p:nvPr/>
        </p:nvPicPr>
        <p:blipFill>
          <a:blip r:embed="rId1"/>
          <a:stretch/>
        </p:blipFill>
        <p:spPr>
          <a:xfrm>
            <a:off x="2209680" y="152280"/>
            <a:ext cx="4876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KTD1"/>
          <p:cNvPicPr/>
          <p:nvPr/>
        </p:nvPicPr>
        <p:blipFill>
          <a:blip r:embed="rId1"/>
          <a:srcRect l="0" t="0" r="4409" b="0"/>
          <a:stretch/>
        </p:blipFill>
        <p:spPr>
          <a:xfrm>
            <a:off x="1219320" y="347760"/>
            <a:ext cx="3886200" cy="2487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KTD aplikacija"/>
          <p:cNvPicPr/>
          <p:nvPr/>
        </p:nvPicPr>
        <p:blipFill>
          <a:blip r:embed="rId2"/>
          <a:srcRect l="0" t="0" r="13027" b="0"/>
          <a:stretch/>
        </p:blipFill>
        <p:spPr>
          <a:xfrm>
            <a:off x="1523880" y="3048120"/>
            <a:ext cx="2362320" cy="3809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KTD kolena"/>
          <p:cNvPicPr/>
          <p:nvPr/>
        </p:nvPicPr>
        <p:blipFill>
          <a:blip r:embed="rId3"/>
          <a:stretch/>
        </p:blipFill>
        <p:spPr>
          <a:xfrm>
            <a:off x="4876920" y="2365200"/>
            <a:ext cx="4267080" cy="4240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KTD dub2"/>
          <p:cNvPicPr/>
          <p:nvPr/>
        </p:nvPicPr>
        <p:blipFill>
          <a:blip r:embed="rId4"/>
          <a:stretch/>
        </p:blipFill>
        <p:spPr>
          <a:xfrm>
            <a:off x="5181480" y="380880"/>
            <a:ext cx="381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бил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абил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радизациј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572000" y="2171880"/>
            <a:ext cx="4233960" cy="2514600"/>
          </a:xfrm>
          <a:prstGeom prst="rect">
            <a:avLst/>
          </a:prstGeom>
          <a:ln cap="sq" w="1260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KTD monoda"/>
          <p:cNvPicPr/>
          <p:nvPr/>
        </p:nvPicPr>
        <p:blipFill>
          <a:blip r:embed="rId1"/>
          <a:stretch/>
        </p:blipFill>
        <p:spPr>
          <a:xfrm>
            <a:off x="3587760" y="304920"/>
            <a:ext cx="3035160" cy="5790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KTD monoda rame i lice"/>
          <p:cNvPicPr/>
          <p:nvPr/>
        </p:nvPicPr>
        <p:blipFill>
          <a:blip r:embed="rId2"/>
          <a:stretch/>
        </p:blipFill>
        <p:spPr>
          <a:xfrm>
            <a:off x="0" y="304920"/>
            <a:ext cx="5029200" cy="2419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KTD potkolenica"/>
          <p:cNvPicPr/>
          <p:nvPr/>
        </p:nvPicPr>
        <p:blipFill>
          <a:blip r:embed="rId3"/>
          <a:stretch/>
        </p:blipFill>
        <p:spPr>
          <a:xfrm>
            <a:off x="0" y="2743200"/>
            <a:ext cx="21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Примена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КТД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а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у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лечењу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стерилите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7880" y="2286000"/>
            <a:ext cx="7689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ормонал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куша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штач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плодњ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вод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руш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тервенц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но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иљ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Т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тиг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перем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иво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рлице, чим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га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вај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премље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имулиса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ос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95" name="Content Placeholder 3" descr="ktd pac2.jpg"/>
          <p:cNvPicPr/>
          <p:nvPr/>
        </p:nvPicPr>
        <p:blipFill>
          <a:blip r:embed="rId1"/>
          <a:stretch/>
        </p:blipFill>
        <p:spPr>
          <a:xfrm>
            <a:off x="1785960" y="380880"/>
            <a:ext cx="6367320" cy="558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ндоген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опло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Picture 7" descr=""/>
          <p:cNvPicPr/>
          <p:nvPr/>
        </p:nvPicPr>
        <p:blipFill>
          <a:blip r:embed="rId1"/>
          <a:stretch/>
        </p:blipFill>
        <p:spPr>
          <a:xfrm>
            <a:off x="2343240" y="2171880"/>
            <a:ext cx="42098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ира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ијатерми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рш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200b5b"/>
                </a:solidFill>
                <a:latin typeface="Times New Roman"/>
              </a:rPr>
              <a:t>ватим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аксимал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знос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00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ређ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бјектив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ј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олесника-треб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јатн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лаг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атермичк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м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икакв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ећа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лиготермичк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д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очљи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ећа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рмичка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јатна топлот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хипертермичк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ак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ј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28840" y="4266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ајањ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5-3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ужина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етма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1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а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ттрауматс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њихо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мпликац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еж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вред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паљенск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генерати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нзглоб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уматизм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з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мисиј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инеколошк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ронич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специфич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паље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ститис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ерилите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ар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кундар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Л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инуситис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ронич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титис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олош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алг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итис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илтрат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руршких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илтрат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па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ућ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еури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бсцес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нтибиотск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runkuli,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rbunculi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ебрилнос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ут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е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клонос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рварењ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равидите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Б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ремећај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нзибилите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мич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раж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клуз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ртеријс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ce ma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ер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пре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ce ma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луш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пара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итет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ст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лаг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ЕУ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СТОРИЈ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спра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блов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кршт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дирива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е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лов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ак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ло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о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тез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ајтан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ук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мер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bebeb"/>
                </a:solidFill>
                <a:latin typeface="Times New Roman"/>
              </a:rPr>
              <a:t>Мере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ebebeb"/>
                </a:solidFill>
                <a:latin typeface="Times New Roman"/>
              </a:rPr>
              <a:t>предострожност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ацијент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реб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објасн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ок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еанс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реб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сет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лаг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римен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КТД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ред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евиз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: "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јач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омаж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"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аблов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кој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овезу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елецтрод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апаратом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мора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б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исправн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ме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укршта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одиривати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од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рачун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гумен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елов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лектрод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икључних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аблов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одируј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ло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ацијент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Неофарадска</a:t>
            </a:r>
            <a:r>
              <a:rPr b="1" lang="sv-SE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2438280" y="2438280"/>
            <a:ext cx="5791320" cy="1919520"/>
            <a:chOff x="2438280" y="2438280"/>
            <a:chExt cx="5791320" cy="1919520"/>
          </a:xfrm>
        </p:grpSpPr>
        <p:sp>
          <p:nvSpPr>
            <p:cNvPr id="164" name="Line 5"/>
            <p:cNvSpPr/>
            <p:nvPr/>
          </p:nvSpPr>
          <p:spPr>
            <a:xfrm>
              <a:off x="2468160" y="4321440"/>
              <a:ext cx="576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684320" y="3060720"/>
              <a:ext cx="24264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6625080" y="3060720"/>
              <a:ext cx="24228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2683080" y="3060720"/>
              <a:ext cx="24228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V="1">
              <a:off x="2438280" y="2438280"/>
              <a:ext cx="0" cy="19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1600200" y="4648320"/>
            <a:ext cx="678168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"</a:t>
            </a:r>
            <a:r>
              <a:rPr b="1" lang="sr-C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неофарадска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"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уз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20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дијагностичк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врх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Ултракратк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09880" cy="487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настаје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генератору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с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агнетроном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од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100-500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Хз</a:t>
            </a:r>
            <a:r>
              <a:rPr b="0" lang="sr-Latn-CS" sz="2000" spc="-1" strike="noStrike">
                <a:solidFill>
                  <a:srgbClr val="200b5b"/>
                </a:solidFill>
                <a:latin typeface="Times New Roman"/>
              </a:rPr>
              <a:t>;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фреквенциј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433,92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Хз</a:t>
            </a:r>
            <a:r>
              <a:rPr b="0" lang="sr-Latn-CS" sz="2000" spc="-1" strike="noStrike">
                <a:solidFill>
                  <a:srgbClr val="200b5b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таласн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дужин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69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цм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повољни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ефекат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загревањ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асног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ишићног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знос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4:1,</a:t>
            </a:r>
            <a:r>
              <a:rPr b="0" lang="sr-Latn-CS" sz="2000" spc="-1" strike="noStrike">
                <a:solidFill>
                  <a:srgbClr val="4d4d4d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д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ТД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однос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9:1</a:t>
            </a:r>
            <a:r>
              <a:rPr b="0" lang="sr-Latn-CS" sz="2000" spc="-1" strike="noStrike">
                <a:solidFill>
                  <a:srgbClr val="4d4d4d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Електрод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виду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рефлектор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ож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мат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различито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пољ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зрачењ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аксималн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доз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200 W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81480" y="1599840"/>
            <a:ext cx="3810240" cy="4876920"/>
          </a:xfrm>
          <a:prstGeom prst="rect">
            <a:avLst/>
          </a:prstGeom>
          <a:solidFill>
            <a:srgbClr val="bbca3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фека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резулта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онверзи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лектромагнетских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алас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рв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удов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апиларног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ред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рошируј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3-10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ут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роширењ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акон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зрачењ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одржав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колик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дан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условљен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ам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ни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г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импатиколитични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фектом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Базал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метаболиза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овећав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(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ассе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)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а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мунолошк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наг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организм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икр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72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електромагнетске радијације високе фреквенције и мале таласне дужине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Фреквенција с 2.000-18.000 МХз,  таласна дужина 15,0-1,67 ц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У терапијским апаратима се користи фреквенција 2.450 МХз и таласна дужина од 12 ц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33760" y="1142640"/>
            <a:ext cx="3809880" cy="571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сновн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римарн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физичк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еловањ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рганиза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стварањ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ендоген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оплот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зрачен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ел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ел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родорност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вих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зрак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к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5 </a:t>
            </a:r>
            <a:r>
              <a:rPr b="1" lang="sr-CS" sz="2400" spc="-1" strike="noStrike">
                <a:solidFill>
                  <a:srgbClr val="200b5b"/>
                </a:solidFill>
                <a:latin typeface="Times New Roman"/>
              </a:rPr>
              <a:t>цм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з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их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разлог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убљ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оложен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ог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ретират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ви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физички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агенс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Значајан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иск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оплотн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коефицијент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абсорпци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асн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(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днос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1:1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асног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ишићног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ишић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АТИЧКИ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ЛЕКТРИЦИТЕ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ранклинизациј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тичк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ицитет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исок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п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ск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рх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вљ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л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чи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0,5 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електрисањ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говар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о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ич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рист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гативн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нов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зодилат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јо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тход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раткотрај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соконстрик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зодилат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словља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вишењ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мператур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словља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брза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плик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ж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пшт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Транскутана</a:t>
            </a:r>
            <a:r>
              <a:rPr b="0" lang="sv-SE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електричн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нервн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sv-SE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sr-CS" sz="3600" spc="-1" strike="noStrike">
                <a:solidFill>
                  <a:srgbClr val="ffcc66"/>
                </a:solidFill>
                <a:latin typeface="Times New Roman"/>
              </a:rPr>
              <a:t>ТЕНС</a:t>
            </a:r>
            <a:r>
              <a:rPr b="1" lang="sv-SE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71600" y="2971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мпулси</a:t>
            </a:r>
            <a:r>
              <a:rPr b="1" lang="sr-Latn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ичн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кетим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7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ом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атких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ај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0,05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0,4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75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125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оуг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авоуг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ифазн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онофазн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ог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њива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иј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7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ем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нављ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у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дн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кунд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2666880" y="1905120"/>
            <a:ext cx="4270320" cy="882360"/>
            <a:chOff x="2666880" y="1905120"/>
            <a:chExt cx="4270320" cy="882360"/>
          </a:xfrm>
        </p:grpSpPr>
        <p:sp>
          <p:nvSpPr>
            <p:cNvPr id="173" name="Line 5"/>
            <p:cNvSpPr/>
            <p:nvPr/>
          </p:nvSpPr>
          <p:spPr>
            <a:xfrm>
              <a:off x="2666880" y="2671920"/>
              <a:ext cx="427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 flipV="1">
              <a:off x="2682000" y="1905120"/>
              <a:ext cx="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Freeform 7"/>
            <p:cNvSpPr/>
            <p:nvPr/>
          </p:nvSpPr>
          <p:spPr>
            <a:xfrm>
              <a:off x="28267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32612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336960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35143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6590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514296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311616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29714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52513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536004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550476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>
              <a:off x="561348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Freeform 19"/>
            <p:cNvSpPr/>
            <p:nvPr/>
          </p:nvSpPr>
          <p:spPr>
            <a:xfrm>
              <a:off x="57218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50342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ранскута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лектрич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НС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С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рапиј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о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авоуг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ифазн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онофазни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мпулс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2-200 Hz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ајање имп 50-500 микросекунд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блици: конвенционалн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сличан акупунктур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у салвам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одулисан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gate control"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теор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врат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,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ups gelatinosi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редњ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рогов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ичмен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ождин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мпетициј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танк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ебел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нервн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влакан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А бета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/А делта и 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GABA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чи пренос болних сигнала на ћелије у 5.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ламини к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. ,,затвара врата,, 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задњим роговим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Info</cp:lastModifiedBy>
  <dcterms:modified xsi:type="dcterms:W3CDTF">2018-11-03T18:30:16Z</dcterms:modified>
  <cp:revision>48</cp:revision>
  <dc:subject/>
  <dc:title>NAIZMENIČNE STRUJE</dc:title>
</cp:coreProperties>
</file>